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00A-1977-4270-8326-3AA36350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212-89F1-4F72-A994-CC40904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752-20A0-444E-B62D-EAAB8A63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160-E238-49BE-B69D-1BF11896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8DC-A2B0-4E9B-931F-D92B1188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BAE-51DE-4833-ABEE-92CDD688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C0E-7CE1-4D0E-9EEB-BCAA5A32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46A-F52F-4457-A34E-A3B63F4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111-37E4-4195-B357-12AD6E5D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74C-B182-4915-ABCA-EA98C1D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F1A-BAC2-4445-957A-9958C014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542-1234-44CF-AF0C-952027A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BD99-2312-4158-B576-D95B99C4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FUTU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guel y yo asist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istire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 cab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rcelo quer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r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d. ven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n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isa dec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rmela y yo t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e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CONDITI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rique bai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il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rta y Felipe hab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bl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ependiente ven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nder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 compr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 po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n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becca y yo s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u mochila c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 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 h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 y yo ha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rí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ds. dec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rí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uadalupe y Jorge compr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renzo y yo patin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n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s amigos t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drí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 sal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l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 ha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icardo t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 h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br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 can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ntare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osotros s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é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ds. limpi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mpi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 po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dr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6:09:37Z</dcterms:created>
  <dc:creator>jbarber</dc:creator>
  <dc:description/>
  <dc:language>en-US</dc:language>
  <cp:lastModifiedBy>Jessica Kaplan</cp:lastModifiedBy>
  <dcterms:modified xsi:type="dcterms:W3CDTF">2012-05-01T18:01:25Z</dcterms:modified>
  <cp:revision>22</cp:revision>
  <dc:subject/>
  <dc:title>Slide 1</dc:title>
</cp:coreProperties>
</file>